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3662210"/>
        <c:axId val="35118969"/>
      </c:barChart>
      <c:catAx>
        <c:axId val="7366221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118969"/>
        <c:crosses val="autoZero"/>
        <c:auto val="1"/>
        <c:lblAlgn val="ctr"/>
        <c:lblOffset val="100"/>
        <c:noMultiLvlLbl val="0"/>
      </c:catAx>
      <c:valAx>
        <c:axId val="351189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66221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A7E4-5FF1-45C5-859D-94C43563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AD7D-C31E-4DAB-8042-3B073D294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4BB0-319C-4DD3-99AD-78D5CB5B3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96549-CF72-408A-9A6C-A485F2DD8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1347E-2A81-4584-A99A-7906279E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0371-2605-410B-8981-D918C6B49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ADC12-9A88-4B54-8FC1-EB9586516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161C7-730B-4A68-B071-854A0AFC2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66131-9EF9-4A63-B136-6F3FF9B6C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EFFB-9235-4ACC-99E8-41E67CE7A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7F59-E7C1-4017-926D-8755CCF71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805E9-B5B4-4771-B3AB-062957D9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E8672-CF91-4AC2-8B39-E25998267BF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