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91399"/>
        <c:axId val="40711751"/>
      </c:barChart>
      <c:catAx>
        <c:axId val="59191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11751"/>
        <c:crosses val="autoZero"/>
        <c:auto val="1"/>
        <c:lblAlgn val="ctr"/>
        <c:lblOffset val="100"/>
        <c:noMultiLvlLbl val="0"/>
      </c:catAx>
      <c:valAx>
        <c:axId val="407117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91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83F-F6D1-4EE8-BAB6-845541BF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4BC-084B-45F5-BDD5-3013BD0E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678-1628-4AD8-B1F7-5032AD31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903-505D-485F-8600-6BCB1671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1F7-2B4D-438F-8DF9-C02F9151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167-576A-4E32-A24E-5C013E02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AC43-5D97-43FE-AD05-3CFDDD32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975-1637-44A2-A492-5E8BD2AD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A78-FFDD-40FB-8137-985E3B03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1A8-F99D-4E84-A561-502EE3D8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F94-4B22-442C-9F50-521AB066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7BA-CBEA-4793-BEBC-0BB23327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7C73C-DD21-4A89-9206-9DFBB6583A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