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64116"/>
        <c:axId val="27382415"/>
      </c:barChart>
      <c:catAx>
        <c:axId val="13364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82415"/>
        <c:crosses val="autoZero"/>
        <c:auto val="1"/>
        <c:lblAlgn val="ctr"/>
        <c:lblOffset val="100"/>
        <c:noMultiLvlLbl val="0"/>
      </c:catAx>
      <c:valAx>
        <c:axId val="27382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64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317-EE28-4E63-BC9C-6013CE28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CD7-D3E5-4E15-ADE2-8EF7DA55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BDB-8B5C-4A57-B255-28D9FE78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CB6-1AD3-45DD-80CC-D89DE8F5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B98-8137-4341-8BC7-33AE79CD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262-DDA4-4076-B3FA-F4A222FF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9374-ABBA-4B57-81EC-4F27A4CB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85E-B7A7-437B-B48D-3486FBBF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6AA-8FC9-410F-865C-6CA85BDA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E75-5C95-4915-8248-92C157E4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273-AFE8-4A6D-9636-060AF963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9AD-CD28-4AE4-BB77-20824B73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40C53-C514-4CDE-B823-FD5B47E64D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