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980057"/>
        <c:axId val="11032644"/>
      </c:barChart>
      <c:catAx>
        <c:axId val="269800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32644"/>
        <c:crosses val="autoZero"/>
        <c:auto val="1"/>
        <c:lblAlgn val="ctr"/>
        <c:lblOffset val="100"/>
        <c:noMultiLvlLbl val="0"/>
      </c:catAx>
      <c:valAx>
        <c:axId val="11032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800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2C8-8E90-4D25-9852-81A13400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F99D-3F45-43D9-A308-F30D222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EB0-7391-4FFC-9310-F97EF283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DA44-0F4A-4CFC-A42E-2306A3DA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3D6-05B7-4BD1-B20C-37D08A4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A90-DE97-42D7-A0EB-657908C2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859-EF65-49AD-BA4E-350A5268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C24-9AE3-4C03-BC71-17E101FA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216-5B42-482A-B251-8BD425F0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F5D-BD05-496C-A364-A4F49EA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F7F-44B9-40D8-A230-FC26DF4B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682A-DC6C-49A8-A61D-957B053B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C7E3-970E-49C2-A1FE-CD06D608C8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