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858721"/>
        <c:axId val="39403478"/>
      </c:barChart>
      <c:catAx>
        <c:axId val="688587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403478"/>
        <c:crosses val="autoZero"/>
        <c:auto val="1"/>
        <c:lblAlgn val="ctr"/>
        <c:lblOffset val="100"/>
        <c:noMultiLvlLbl val="0"/>
      </c:catAx>
      <c:valAx>
        <c:axId val="394034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8587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C36A-5F83-457D-A40A-371B9B795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18D9-3651-4598-BE1A-E566C75C2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725F-F86B-4D96-A474-7CA332AC7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C570-E5F8-4ECE-AA99-AEAA3593B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9C7D-7DFD-4FBB-BB3D-2DAF8309D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52BC-FCB7-4C04-B0F6-4DC311BC6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268B-6690-479E-887F-05C8C80FD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D759-D773-475A-8BE6-197730920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7A95-DE4D-4CF1-9A01-5B58F9427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FB45-3075-4684-A347-DC49A2058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B220-63DE-442C-9504-8E92C181B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62DB-2BBC-4D0C-AB51-47730EC05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06A5D9-E6DA-4CC4-910B-2CEFF179DD3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