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545302"/>
        <c:axId val="2523978"/>
      </c:barChart>
      <c:catAx>
        <c:axId val="335453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3978"/>
        <c:crosses val="autoZero"/>
        <c:auto val="1"/>
        <c:lblAlgn val="ctr"/>
        <c:lblOffset val="100"/>
        <c:noMultiLvlLbl val="0"/>
      </c:catAx>
      <c:valAx>
        <c:axId val="25239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5453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8F99-547B-48F0-9F1D-F7C827BC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4EB8-9240-4316-97D1-35E51BAD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39D0-AD33-43C9-8C9C-0C3DD1955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4BC5-C4DB-4470-ADE0-7FF4EE350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B4C2-F483-4C54-B359-83DDFD0F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7BC5-10F4-43C2-A2FD-2036A5D6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EF76-C959-4465-BB1B-4690397B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43EB-D457-4D34-925E-FF4BE5CD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64BB-6501-48E8-96B2-7B3392D9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C6EA-A345-4AC2-B03C-E742FEE2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DAB9-7C0B-4224-92D7-3897DB7E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3BD6-6E08-44F7-BF78-65464A5C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BC5BB-795A-4F4A-86A9-4E5715B909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