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36655"/>
        <c:axId val="39560963"/>
      </c:barChart>
      <c:catAx>
        <c:axId val="84836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0963"/>
        <c:crosses val="autoZero"/>
        <c:auto val="1"/>
        <c:lblAlgn val="ctr"/>
        <c:lblOffset val="100"/>
        <c:noMultiLvlLbl val="0"/>
      </c:catAx>
      <c:valAx>
        <c:axId val="39560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36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439-BFC6-4298-B878-CEBC4448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070-365A-4EEB-8F31-5F84413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086-4A62-4235-B144-F8903D5C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94C-BCAB-4D3F-B3D9-88ECB111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35B-C528-47CE-B574-2795207F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6F9-6877-436E-A52B-E030C1A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D5A-FA1A-4C4E-9A96-8D5D6E8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463-1588-4416-A3D5-72587E8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7CD-98A9-4D9E-838F-93C0E895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4E0-7BA2-41E8-BD8A-B79C2D10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D6C-09BD-4965-B2EE-8360A508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C38-8EB4-4CF2-BA7A-402B1DA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EA784-B5D3-4ED5-AFC6-AD53DBD0F7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