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197669"/>
        <c:axId val="96322960"/>
      </c:barChart>
      <c:catAx>
        <c:axId val="961976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322960"/>
        <c:crosses val="autoZero"/>
        <c:auto val="1"/>
        <c:lblAlgn val="ctr"/>
        <c:lblOffset val="100"/>
        <c:noMultiLvlLbl val="0"/>
      </c:catAx>
      <c:valAx>
        <c:axId val="963229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1976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040C-5A1F-4405-BD94-B3B612889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FC05-FB2D-495A-BF03-C555219D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1A46-B48B-4E7E-B54F-6F95F1EBC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686A-876A-497F-92D3-C89261DA8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D064-DD05-4D53-BB16-D19A20D2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1F62-A99D-487E-AC33-5B69B5BF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6ECE-F939-4570-927D-D281E91E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D417-AE1A-423D-A044-EFF42304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F709-7EBB-42AB-9140-33F5AA80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0AAB-B0F4-4DC4-A119-7C28EE4F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45BC-0361-4FB6-A35B-AD390E52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51FD-86A5-44AE-8766-70777192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F7EDBB-523A-4905-8A4C-5164CD318E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