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860245"/>
        <c:axId val="21973227"/>
      </c:barChart>
      <c:catAx>
        <c:axId val="868602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73227"/>
        <c:crosses val="autoZero"/>
        <c:auto val="1"/>
        <c:lblAlgn val="ctr"/>
        <c:lblOffset val="100"/>
        <c:noMultiLvlLbl val="0"/>
      </c:catAx>
      <c:valAx>
        <c:axId val="219732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602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9B8C-E2BF-4303-9708-3EA65C33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84AC-C9EF-414E-949B-7F32EDB2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07F2-FD69-426A-A82B-CC74B282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0E02-3EA3-455C-B117-025AA37E2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9CB9-F7C7-4AFA-8DB2-9CFEAC0E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3563-A987-41A8-A37C-DAC0CECC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B6A9-B053-4640-A67B-2FD65F7E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8B5E-4AD2-4A19-876C-14A1D472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3882-076A-4307-8F13-3A4397E3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AE97-5E22-4B24-A2CA-12ED9CB9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A2A6-4BF9-4036-8D14-2F50C3D9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1C70-680E-4442-8F70-7A685C1F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EE62E-9DDF-49C5-9B0B-67FB8F08EF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